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F01-9351-4B59-A5FB-D4AD094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E3B-213A-41BE-8AEB-B5D3C04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F54-B831-40FE-AC21-9E010140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B47-808C-4969-8CF4-550F20AF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4A4-F819-4CB1-BB15-328468CA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0AC-4029-4DC6-90DC-B8532E5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11B-5511-4303-8398-C737FBE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4AE-1149-4501-8D8A-A9C25C46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295-1762-48B3-8445-9F625139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1CE-DC25-4DF7-9F00-7575CE8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B3A-3237-4D56-9810-1CD47B3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4B3-72F5-4008-9E03-3BA2310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93E-837A-4364-A399-1C1B4ABF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Dropping Of The Atomic Bombs O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By: Brandon and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Old English Text MT"/>
              </a:rPr>
              <a:t>When and Where it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120" y="3962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tomic bomb was dropped on Hiroshima on Monday, August 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econd Atomic bomb was dropped on Nagasaki on August 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Dropped it and Who Helped M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tomic bomb was tested in New Mexico and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was dropped by the United States of America Ai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had to be cleared to be dropped by the Joint Chiefs of Staff of the War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Had a Big Role in The B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did most of the work for the bombing of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 have some help from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role the united states played in the bombing was the actual bombing itself and the making of the bom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y is The Event Memor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bombing in Japan is a memorable moment because pearl harbor was right before the bombing in Japan happ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of the veterans who survived pearl harbor, they might of taken this as reve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Why is This Relevant to W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ings on Japan were relevant to World War 2 because in WWII the Japanese attacked pearl harbor which got United States into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earl harbor incident didn’t happen, the bombings on Japan would not of been relevant to World War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1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2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3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4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5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6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1 -www.worldboo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2 -Bombing of Hiroshima-Encyclop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3 -www.icon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14:01Z</dcterms:created>
  <dc:creator>41251</dc:creator>
  <dc:description/>
  <dc:language>en-US</dc:language>
  <cp:lastModifiedBy>Safe Internet</cp:lastModifiedBy>
  <dcterms:modified xsi:type="dcterms:W3CDTF">2005-02-01T04:22:00Z</dcterms:modified>
  <cp:revision>7</cp:revision>
  <dc:subject/>
  <dc:title>Dropping Of The Atomic Bombs On Japan</dc:title>
</cp:coreProperties>
</file>